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D2C1-F453-4AF3-A93A-D89A14761B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82B9-9C19-456F-B554-F516BE072D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055C0A-06EE-4136-8EAA-193E9256D3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3B7D-C689-4270-9FD0-BB00B7371E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C4C8-B55A-45D5-B6B2-2833D954B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075E-67B5-4790-AAC4-E6E0B9C570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176C-6F29-41B8-B6F2-796CC75125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081F-A15F-48A5-B9F7-C061C8D62C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D09A-E955-4A81-B1C3-75C4015634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D9C-3E7E-430E-8E58-6E57BBB8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49A-409D-4740-BEA6-A31EAEE7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BB8-102F-498B-80DC-D9A11809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E09-87CA-4836-A995-1F3B6375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C7B-66D6-4B64-B89C-903BE656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BC1-C649-4DDC-98EB-773FA626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ECE-774A-4CA5-8372-6F2680ED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509-C579-4B23-AEE9-ADB0D821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943B-3F23-4D1D-9BDE-4E843606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D06-F048-469A-B1B0-03C3E808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CA5B-7467-4035-8C14-993473AB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7518-6721-4A73-98FC-F4523EC1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F77C-17FF-425A-9F4E-909D031997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5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5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5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6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6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6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cp:lastPrinted>2020-12-02T13:30:30Z</cp:lastPrinted>
  <dcterms:modified xsi:type="dcterms:W3CDTF">2020-12-03T06:24:11Z</dcterms:modified>
  <cp:revision>513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